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F9F-B247-48FD-AC9A-7D1F2A73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085-AAD5-4DC0-8961-C18F77A7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416-96B4-468E-8B5C-5BF76D55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4EC-74B1-40D6-92B9-A3F5C941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A176-68BD-4612-B648-D981B06C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819-63D8-4C4F-BE4F-44B928A8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5E25-4220-4FE1-8222-C85206E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1608-8861-4851-806B-84A62106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489C-FFED-4E59-8F6D-6C6C9EFE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D013-C8A5-4121-BE3F-7F9BAFF3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65C1-233E-4513-946F-7CF874F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B9E3-8A04-45F5-AD7C-01DB8B0C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0946-1590-4E41-8734-47306564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90C5-8FD8-4632-AAC8-9596D14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E845-EE0A-40E1-99F5-E9207CFC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261A-99F5-4FE9-9B68-03E20A25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D41C-C03C-4BF9-97E0-07EBC16A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AF60B-E1E9-417D-B224-F409ADAB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50DD7-81C9-4918-805A-A4537F55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ED3EF-DCAF-45BD-B37C-35399BA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A720B-A2E9-42E1-B15D-4863F475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5B6B0-EAEF-4A38-A6A1-BA82AFAE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32C-A121-4CE8-B209-403E6FAA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1C6C7-3DFD-41AC-8158-0762B87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6429C-0E5A-4357-B58D-C0D248F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BBE25-A467-4373-B4FF-E8DB8869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92192-112C-43A2-98F2-79A6C044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88924-D739-4E12-B674-544ADC4F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CDD48-AF52-4EB4-BAC3-1ECB6423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C4674-C375-47FC-A84D-3BCD5823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CBFB-B62D-4A50-BEA8-6DBC7D00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5613C-8872-491B-A209-F661F35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3B7D-F32D-4A2B-9518-A6E41D5C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851-EC0A-4339-A996-89DCE074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83421-453C-468A-AAB9-5CB2E04F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52CF-B338-467B-BB0A-5224C8CC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B20C7-72F4-4C9B-8FD9-F643C24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2E572-8BAA-4ADA-9541-A99A3714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4A66-899C-4C04-9709-EDEA9BE1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9CD66-3FE9-46D5-A0D6-F49F0BD0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FB531-DE79-4D4F-906D-6FCFF1A6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20FF6-7825-44E9-A1A8-26CA3136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FE1B3-DAAD-4C6D-AEE0-1242D226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DC578-FCF2-4C39-9A26-99F6112E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B60C-27F6-4404-94A1-585F9DB0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62DD3-7C46-48A0-A980-83F33862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8536B-0955-4059-9E14-24A2734B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887F7-A42A-4526-A0B8-97159469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6A771C-DC98-4D29-85B8-25A80E6B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C60299-4702-4427-A1A9-20CE074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E09E80-7BF9-421B-917A-620E984B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D0D22-638A-4E5A-8F99-DEFEA1A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1555FA-5348-41C1-AF0D-0DED99D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F6256-13C4-47C4-93E6-2024F1D3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28CD2-2F05-4C2F-A98F-D4A050D4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A50-C54D-44F6-9457-830D8EC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EB281-999C-4DBE-AFEE-EE78EBBA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E7FE5-A4F2-4B30-917B-4CF99C604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E8581-688F-4B41-9F1D-943997AD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92048-3A40-46BE-8D3D-ED1FA109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1A72C-78DB-4917-807D-3019E9BF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EEBFCF-920D-4DA2-9B78-D5CE58B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BD892-A760-47D4-970F-C3FAA167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BE43C5-BFB0-4832-8E69-CCC8B83D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0C13BD-FDB7-409F-9214-EA62376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9E4D2-A892-40A3-A785-E818C19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25E-AB13-4BD2-86FD-BA42552C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40A3A-AC74-49A6-B58C-9031C705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28B3F-6820-4AAF-ADB0-3F74F23F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F2B411-AB34-44EC-AC3D-B1E73BCC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64BA56-2032-43B1-A22D-9890E469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D8E74-3C99-4D61-A8F6-844F9B87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4DADE-50F7-4909-A185-6E56639D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9B3D0-848F-47D9-8B1B-89CB1A6D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900185-7EDB-422E-86F4-5939AD5C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AAA2DA-89EC-47DF-9E39-B9BEB5B9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2989C-B30A-4079-8541-D03F0483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3AA1-EDE9-493D-AB00-76523505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BCE9F-1CBF-4C64-9F12-8D21431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AC8602-CCDE-4AE5-AC46-403AAAEE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2E0358-F942-4978-AADE-678F5602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00A227-8D89-4F8B-A771-C9E9FE0E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1022F9-0FB4-4DD7-A9F5-8D083917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E8E7F-FE14-47C3-BE7E-1086E7A3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A13A8-6724-4F72-A450-B4EAE2DE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1F82-22EA-427C-9E41-0EC6807A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2BB76-9E8B-4C99-ABEA-2D16D354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8DD6C-A9A5-47BD-859C-4B811E43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E2C6-911A-42F0-9885-D96FBD95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ABA9D-6DC5-4337-A45A-14817C8C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63294-EF7F-46BE-83A6-95E704DD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1A165-22D9-437F-8020-CC19D4CE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0CC52-0710-4987-A5A3-84D091E6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1AE36-464B-4358-81D1-92BA20DD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BCB6-DD85-4057-90C4-B37745B4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45DC0-80D8-43C2-BD03-2F06BAE2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CDA0-9718-403C-A6DA-353DEEA944F8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D713-5694-47BA-BEBD-D16A5309C7FD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B27B-CE00-4932-B693-3872B2389419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E6FB-34B1-4720-9BA6-DF123A24630A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8A11-FC67-44BB-A0D4-ABF7902CEC99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1D37-3CCC-4DC0-B92E-E5D0543A1AEE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1F48-F6FF-44F9-B642-C145F853F42D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E01-AD0F-4CA9-B32B-3A87BAF8F9A3}" type="slidenum"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3464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500" spc="-1" strike="noStrike" u="sng">
                <a:solidFill>
                  <a:srgbClr val="575f6d"/>
                </a:solidFill>
                <a:uFillTx/>
                <a:latin typeface="Century Schoolbook"/>
              </a:rPr>
              <a:t>LA VOZ DEL DÍA</a:t>
            </a:r>
            <a:br>
              <a:rPr sz="5500"/>
            </a:br>
            <a:r>
              <a:rPr b="1" lang="es-MX" sz="2400" spc="-1" strike="noStrike">
                <a:solidFill>
                  <a:srgbClr val="a6a6a6"/>
                </a:solidFill>
                <a:latin typeface="Century Schoolbook"/>
              </a:rPr>
              <a:t>15 DE FEBRERO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835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Schoolbook"/>
              </a:rPr>
              <a:t>¡Mi hermana 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Schoolbook"/>
              </a:rPr>
              <a:t>un extraterrestre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Schoolbook"/>
              </a:rPr>
              <a:t>Los habitantes de Villarriba siguen hoy atónitos, tras las declaraciones de un niño de10 años, vecino de la localidad, que afirma que su hermana es un extraterrestr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entury Schoolbook"/>
              </a:rPr>
              <a:t>En una entrevista exclusiva con la Voz del Día, Enrique García cuenta su historia.  Enrique dio a conocer la noticia después de que su hermana se negase a ayudarle con sus deberes, pero ha desmentido rumores segú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11" descr="http://st-listas.20minutos.es/images/2012-01/318021/3357002_249px.jpg?1327343713"/>
          <p:cNvPicPr/>
          <p:nvPr/>
        </p:nvPicPr>
        <p:blipFill>
          <a:blip r:embed="rId1"/>
          <a:stretch/>
        </p:blipFill>
        <p:spPr>
          <a:xfrm>
            <a:off x="4979880" y="2243160"/>
            <a:ext cx="3640320" cy="3432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54:53Z</dcterms:created>
  <dc:creator>Laboratorio Matutino</dc:creator>
  <dc:description/>
  <dc:language>en-US</dc:language>
  <cp:lastModifiedBy>Yadira</cp:lastModifiedBy>
  <dcterms:modified xsi:type="dcterms:W3CDTF">2013-02-17T11:45:54Z</dcterms:modified>
  <cp:revision>8</cp:revision>
  <dc:subject/>
  <dc:title>La voz el día 15 de diciembre</dc:title>
</cp:coreProperties>
</file>